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wmf" ContentType="image/x-wmf"/>
  <Override PartName="/ppt/media/image4.jpeg" ContentType="image/jpeg"/>
  <Override PartName="/ppt/media/image9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1900-244D-4DCF-A4B0-C3002832F644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ssuming all segments are the same size, locker shelves #1 and #3 should be manufactured followed by Locker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 #1 has the highest utility (16) with Locker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 #4 has the highest utility (11) with Locker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ker #1: Wood, Red, 6 inches high and adjustable by 2 i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 #2 has the highest utility (11) with Locker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ker #2 is plastic, blue, 8 inches high, and adjustable by 3 i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 #3 has the highest utility (13) with Locker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 #5 has the highest utility (16) with Locker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ker #3 is fabric, white, 12 inches high, and adjustable by 4 i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oint analysis is a type of Decision analysis: another is decision trees given probabilities.  Here we are making assumptions based on a sample population which we have placed into se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the constraints that we put in we can see that some of them were bi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the constraints that we put in we can see that some of them were bi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2D7E3-41CF-4EF3-82D8-14F7960F9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DE24B-2C2D-48E2-8C8F-994D5380E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728BD-BBD6-4F5E-874E-8005F6CC8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F1121-BB50-44DF-B915-9B66B592DB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63DE7-D5C5-464C-8E1B-780692A049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F200-652E-4FA6-B937-1928B9460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1B724-79AC-4A5E-9188-4D2BD8CB3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D141A-69A3-490B-9A27-E244C1D07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BEF8-C548-4B10-8469-D54D867A0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8F651-4381-4357-900D-18F5ECABD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CA5BD-AFC1-465A-A252-3000FF078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00965-DE1A-4104-9D78-5148B92C8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esleyf.com/photos/Year4/Wesley%20month%2042-Locker%2002l.JPG&amp;imgrefurl=http://www.wesleyf.com/site_map.shtml&amp;h=543&amp;w=489&amp;sz=99&amp;tbnid=6NRTcj2wgJUJ:&amp;tbnh=130&amp;tbnw=117&amp;start=39&amp;prev=/images%3Fq%3Dlocker%26start%3D20%26hl%3Den%26lr%3D%26sa%3D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ivezone.com/girltalk/images/locker.gif&amp;imgrefurl=http://www.livezone.com/girltalk/locker.html&amp;h=399&amp;w=381&amp;sz=60&amp;tbnid=UEZ7SI5udv4J:&amp;tbnh=119&amp;tbnw=114&amp;start=1&amp;prev=/images%3Fq%3Dlocker%26hl%3Den%26lr%3D%26sa%3D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dansville.org/middle-school/Virtual%20Tour/First%20Floor/photos/Girl%27s%20Locker%20Room2.jpg&amp;imgrefurl=http://www.dansville.org/middle-school/Virtual%20Tour/virtual_tour.htm&amp;h=480&amp;w=640&amp;sz=39&amp;tbnid=c7NmVkLGYfAJ:&amp;tbnh=101&amp;tbnw=135&amp;start=13&amp;prev=/images%3Fq%3Dlocker%26hl%3Den%26lr%3D%26sa%3D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ensinclair.com/photos-dir/locker.jpg-medium.jpg&amp;imgrefurl=http://www.bensinclair.com/photo/347/medium/set&amp;h=400&amp;w=600&amp;sz=68&amp;tbnid=qZM7EzFaZ3gJ:&amp;tbnh=88&amp;tbnw=132&amp;start=36&amp;prev=/images%3Fq%3Dlocker%26start%3D20%26hl%3Den%26lr%3D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lanetdrew.com/drewpix/phot/lock%20on%20locker.JPG&amp;imgrefurl=http://www.planetdrew.com/drewpix/phot/&amp;h=1200&amp;w=1600&amp;sz=798&amp;tbnid=o_E_ACTH0WQJ:&amp;tbnh=112&amp;tbnw=149&amp;start=35&amp;prev=/images%3Fq%3Dlocker%26start%3D2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59800" y="4570560"/>
            <a:ext cx="48639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Decision Mode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Final Projec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y 2,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4724280"/>
            <a:ext cx="2361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ackie Gallag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ary Gord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onisha Sin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Lauren Wolf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66680" y="76320"/>
            <a:ext cx="6934320" cy="426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2D45B-2D33-4A84-8FBF-67B7B8E69A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3000" y="1879560"/>
            <a:ext cx="93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36880" y="187956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6120" y="1879560"/>
            <a:ext cx="258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Variable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10520" y="187956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49640" y="182736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485720" y="2266920"/>
            <a:ext cx="216360" cy="324720"/>
            <a:chOff x="1485720" y="2266920"/>
            <a:chExt cx="216360" cy="324720"/>
          </a:xfrm>
        </p:grpSpPr>
        <p:sp>
          <p:nvSpPr>
            <p:cNvPr id="89" name=""/>
            <p:cNvSpPr/>
            <p:nvPr/>
          </p:nvSpPr>
          <p:spPr>
            <a:xfrm>
              <a:off x="1628280" y="2423880"/>
              <a:ext cx="7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Book Antiqua"/>
                </a:rPr>
                <a:t>ij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85720" y="2266920"/>
              <a:ext cx="12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 Antiqu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752840" y="226044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7000" y="2270160"/>
            <a:ext cx="5786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binary variable; 1 if segment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will buy product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j,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0 otherw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92880" y="257652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49640" y="12160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91120" y="3090960"/>
            <a:ext cx="210960" cy="324720"/>
            <a:chOff x="1491120" y="3090960"/>
            <a:chExt cx="210960" cy="324720"/>
          </a:xfrm>
        </p:grpSpPr>
        <p:sp>
          <p:nvSpPr>
            <p:cNvPr id="96" name=""/>
            <p:cNvSpPr/>
            <p:nvPr/>
          </p:nvSpPr>
          <p:spPr>
            <a:xfrm>
              <a:off x="1628280" y="3247920"/>
              <a:ext cx="7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Book Antiqua"/>
                </a:rPr>
                <a:t>ij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91120" y="3090960"/>
              <a:ext cx="119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 Antiqua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752840" y="308448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7000" y="3094200"/>
            <a:ext cx="571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total “value” that segment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places on product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j.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r our two products (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1,2),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 Antiqua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1 if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 Antiqua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&gt; 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 Antiqua"/>
              </a:rPr>
              <a:t>i products not j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37480" y="385452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06160" y="4189320"/>
            <a:ext cx="343800" cy="345600"/>
            <a:chOff x="1406160" y="4189320"/>
            <a:chExt cx="343800" cy="345600"/>
          </a:xfrm>
        </p:grpSpPr>
        <p:sp>
          <p:nvSpPr>
            <p:cNvPr id="102" name=""/>
            <p:cNvSpPr/>
            <p:nvPr/>
          </p:nvSpPr>
          <p:spPr>
            <a:xfrm>
              <a:off x="1605960" y="4367160"/>
              <a:ext cx="14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Book Antiqua"/>
                </a:rPr>
                <a:t>jk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06160" y="4189320"/>
              <a:ext cx="16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1805400" y="420228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7000" y="4211640"/>
            <a:ext cx="57103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binary variable; 1 if product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has level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of attribute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otherwise 0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26240" y="452124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6280" y="513540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445760" y="4998960"/>
            <a:ext cx="306000" cy="345600"/>
            <a:chOff x="1445760" y="4998960"/>
            <a:chExt cx="306000" cy="345600"/>
          </a:xfrm>
        </p:grpSpPr>
        <p:sp>
          <p:nvSpPr>
            <p:cNvPr id="109" name=""/>
            <p:cNvSpPr/>
            <p:nvPr/>
          </p:nvSpPr>
          <p:spPr>
            <a:xfrm>
              <a:off x="1607760" y="5176800"/>
              <a:ext cx="14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Book Antiqua"/>
                </a:rPr>
                <a:t>ik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45760" y="4998960"/>
              <a:ext cx="140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792440" y="501804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7000" y="5029200"/>
            <a:ext cx="5634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“value” placed by segment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on level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of attribute </a:t>
            </a: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12160" y="5221440"/>
            <a:ext cx="6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49640" y="55706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9160" y="5805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Variable Descrip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579132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67652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2096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1D51C-C0A8-4006-AFC8-139B70BB45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82880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Here is what the set up looks like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"/>
          <p:cNvSpPr/>
          <p:nvPr/>
        </p:nvSpPr>
        <p:spPr>
          <a:xfrm>
            <a:off x="287640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348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348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348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0ED80-068B-4242-AA0C-B2266AC257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Running Solver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Goal: To maximize the number of segments who will purchase the new shelve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e run solver adding our constraints: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ttributes have to be between 1 and 4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ll must be integers, no decimal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o attributes can have negative value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994040"/>
            <a:ext cx="3006720" cy="33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BD83-9AA7-4083-9603-CBA36CAFE4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82880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Optimal Solution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"/>
          <p:cNvSpPr/>
          <p:nvPr/>
        </p:nvSpPr>
        <p:spPr>
          <a:xfrm>
            <a:off x="287640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3348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3348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3348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29600" cy="548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A08FD-E139-4039-97C6-497199665B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82880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7640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3348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3348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762120"/>
            <a:ext cx="601956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Great, but how do I interpret this?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82624-1F39-4121-8892-03C8DA12EF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optimal locker shelf: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Results indicate that: 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Segments 1, 3 &amp; 4 prefer Locker shelf #1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Segments 3 &amp; 4 are equally as happy with Locker shelf #2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Segment 2 goes to Competitor #1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Segment 5 goes to Competitor #2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2BE06-1733-4DD0-B93F-2B5E8F4B55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1AE25-D91C-4229-AC54-1C40386FF4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Conclusion &amp; Recommendation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724280" y="2043000"/>
            <a:ext cx="3810240" cy="3103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33520" y="5562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As you can see, introducing one new locker shelf to the market will increase our market sha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5800" y="2030400"/>
            <a:ext cx="3809880" cy="3075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838080" y="16002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e-Analysis Market Sh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16002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ost-Analysis Market Sh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839FA-7FD0-4EC8-920A-2B7958B690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94000" y="1981080"/>
            <a:ext cx="272592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E2FB9-BD54-4845-8170-25143610E0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APPENDIX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F541A-CB8F-4E7E-8FE6-ABFED50AE6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ituation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5105520"/>
            <a:ext cx="1447920" cy="151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172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3124080"/>
            <a:ext cx="792504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o do so we performed a Conjoint Analys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s you will recall a Conjoint Analysis is used specifically to understand how respondents develop preferences for products or servic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295280"/>
            <a:ext cx="7696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s a start-up locker shelf company, “Hold It”, we currently only have 20% market share and we are interested in growing our market share by introducing two new produc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5257800"/>
            <a:ext cx="1714320" cy="128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FD5A-040B-440E-A137-11F76CDB7A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Answer Report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320" y="905040"/>
            <a:ext cx="8991360" cy="526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58A9F-4CEF-4B7B-9E95-F29846F087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Constraints in Answer Report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686800" cy="572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BD8ED-5FD5-4D16-96EC-1ED1C2179D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Adjustable cells in Population Report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0592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F6344-17C2-48A1-B087-393E7EDCF0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What is Conjoint Analysis?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"/>
          <p:cNvSpPr/>
          <p:nvPr/>
        </p:nvSpPr>
        <p:spPr>
          <a:xfrm>
            <a:off x="197172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1600200"/>
            <a:ext cx="76964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Identifies optimal feat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redict market share of different products based on feature prefere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Break consumers into more precise segments based on feature preferenc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Identify marketing opportun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Demonstrate the importance of each feature to overall produ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94223-5CAD-40A0-B6E2-BBB1C28509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Locker Features &amp; Segment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"/>
          <p:cNvSpPr/>
          <p:nvPr/>
        </p:nvSpPr>
        <p:spPr>
          <a:xfrm>
            <a:off x="197172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219320"/>
            <a:ext cx="7696080" cy="25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Featur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terial composition of the locker sh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or of the locker sh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eight of the locker sh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djustability of the locker sh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2590920"/>
            <a:ext cx="2210040" cy="1828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120" y="4191120"/>
            <a:ext cx="769608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Segments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We divided our subjects into five unique segments based on similar demographic inform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ain factors were sex, age, and heigh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609F4-1CB0-4AEA-84DE-5BEE250982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7172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6228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9236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Basic Assump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  <a:ea typeface="MS Mincho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  <a:ea typeface="MS Mincho"/>
              </a:rPr>
              <a:t>All customers within a segment view lockers shelves similar in terms of desirable attribu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Only respondents that completed the entire survey were counted and all segments are equal in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Customers in a segment conduct an analysis where they compare various attributes of a product and develop a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Customers will use this analysis/rankings to drive purchase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odel Specifics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rcRect l="8048" t="0" r="11416" b="0"/>
          <a:stretch/>
        </p:blipFill>
        <p:spPr>
          <a:xfrm>
            <a:off x="7010280" y="304920"/>
            <a:ext cx="1524240" cy="142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69ADB-FCA4-4910-AFB6-4F5DFE7F81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7172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3311640"/>
            <a:ext cx="7010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This model assumes that customers will make purchasing decisions based on the value that he or she has assign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For example, giv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Value of product A at 1 + 4 + 3 + 3 = 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and product B at 1 + 3 + 1 + 2 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Customers will select product A over produc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Rankings drive purchase behavior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477200" y="4419720"/>
            <a:ext cx="1438200" cy="2031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38080" y="155592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Consumers will rank attributes based on preferences, these rankings will result in an overall utility or value for each combination of thes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B4C1F-6940-48A7-9BBE-F2A49B4A19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Ranking Attribute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336680"/>
            <a:ext cx="8381880" cy="530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369E-0AEA-4384-BD91-D9C497F3B8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7172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6228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295280"/>
            <a:ext cx="8229600" cy="41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Mincho"/>
              </a:rPr>
              <a:t>To get this model to work we had to account for our two competitors’ existing prod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Mincho"/>
              </a:rPr>
              <a:t>What we want our model to measure is the introduction of two new locker shelves, and evaluate which product features will capture the greatest market shar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54100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  <a:ea typeface="MS Mincho"/>
              </a:rPr>
              <a:t>Maximize the number of customer segments who will buy our produc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9929A-D193-46C4-B93F-DE31849226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Definition of Formula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1828800"/>
            <a:ext cx="8458200" cy="34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There are five customer segments, indexed from 1 to 5 with the subscript letter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There are four products, indexed from 1 to 4 with the subscript letter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There are four product attributes, indexed from 1 to 4 with the subscript letter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There are four possible levels for each attribute, and we will index them from 1 to 4 with the subscript letter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MS Mincho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8B3BA-C48F-4AFD-A97C-B3864B3389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20:34:22Z</dcterms:created>
  <dc:creator>djuran</dc:creator>
  <dc:description/>
  <dc:language>en-US</dc:language>
  <cp:lastModifiedBy>imaging</cp:lastModifiedBy>
  <dcterms:modified xsi:type="dcterms:W3CDTF">2005-05-02T14:50:01Z</dcterms:modified>
  <cp:revision>405</cp:revision>
  <dc:subject/>
  <dc:title>PowerPoint Presentation</dc:title>
</cp:coreProperties>
</file>